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11C-0F02-4637-BE0D-646B1C23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C8F-DB40-4642-8F5C-49C32582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68D-88F3-465F-ACD5-0BD0818E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A21-24F9-4788-A5D8-75B33F15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8BEEB-C110-481B-BC94-161164E0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A8F76-86B5-4A1E-8A60-8042DCD8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FB6B7-D370-4850-B291-F87DD698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A2950-D1F4-4F11-BDEF-0541866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D2950-985C-4CC0-BEFF-847BBBA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B7BB5-A051-49DB-92FA-622539B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F69E5-DACE-48CD-92EA-348D2CE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72D-FAE0-416C-A28E-85B2F24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2C4EA-18C5-4624-9A04-E4A0B04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1A60E-6234-42F6-8CA9-D9C378F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8E42B-745B-48C4-8762-BF161A7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D3645-FE3D-44AE-9EFD-D59BF242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9C817-C600-441D-A067-4A48F86D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615-6028-42F9-8A83-ED932C89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197-28B3-41C9-ABF1-AA9FE712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FBB-61DD-4EFE-A682-6C24145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745-8B8A-4AF5-90E4-EA98EA1F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291-CB25-4178-BF7E-5863A4F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EE2-41D5-40E9-B389-5F973F4E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554-2188-4FEF-A4CF-B79B1B4B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18A0-FACC-40AA-B72D-1542EA736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3634-D576-40BC-97CB-FECF247EBA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Walk in the Desert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 Amazing Wo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pe formed on land like hills, mountains, lakes, and des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43450000[1]"/>
          <p:cNvPicPr/>
          <p:nvPr/>
        </p:nvPicPr>
        <p:blipFill>
          <a:blip r:embed="rId1"/>
          <a:stretch/>
        </p:blipFill>
        <p:spPr>
          <a:xfrm>
            <a:off x="6324480" y="2895480"/>
            <a:ext cx="18417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Pj04340860000[1]"/>
          <p:cNvPicPr/>
          <p:nvPr/>
        </p:nvPicPr>
        <p:blipFill>
          <a:blip r:embed="rId2"/>
          <a:stretch/>
        </p:blipFill>
        <p:spPr>
          <a:xfrm>
            <a:off x="533520" y="2743200"/>
            <a:ext cx="2514600" cy="251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Blue hills"/>
          <p:cNvPicPr/>
          <p:nvPr/>
        </p:nvPicPr>
        <p:blipFill>
          <a:blip r:embed="rId3"/>
          <a:stretch/>
        </p:blipFill>
        <p:spPr>
          <a:xfrm>
            <a:off x="35053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kind of rain, snow, hail, or other form of water that comes down from the clouds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MCj02788500000[1]"/>
          <p:cNvPicPr/>
          <p:nvPr/>
        </p:nvPicPr>
        <p:blipFill>
          <a:blip r:embed="rId1"/>
          <a:stretch/>
        </p:blipFill>
        <p:spPr>
          <a:xfrm>
            <a:off x="4114800" y="3098880"/>
            <a:ext cx="312408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ll of sand in a des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MPj0424385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35816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f or an over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MCBD09077_0000[1]"/>
          <p:cNvPicPr/>
          <p:nvPr/>
        </p:nvPicPr>
        <p:blipFill>
          <a:blip r:embed="rId1"/>
          <a:stretch/>
        </p:blipFill>
        <p:spPr>
          <a:xfrm>
            <a:off x="3276720" y="2514600"/>
            <a:ext cx="437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v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f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ove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someone finds out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MMj028676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305080" cy="22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bid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dangerous and sc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Cj03315770000[1]"/>
          <p:cNvPicPr/>
          <p:nvPr/>
        </p:nvPicPr>
        <p:blipFill>
          <a:blip r:embed="rId1"/>
          <a:stretch/>
        </p:blipFill>
        <p:spPr>
          <a:xfrm>
            <a:off x="3691080" y="2530440"/>
            <a:ext cx="2100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ce without water or trees but with a lot of 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MPj04243860000[1]"/>
          <p:cNvPicPr/>
          <p:nvPr/>
        </p:nvPicPr>
        <p:blipFill>
          <a:blip r:embed="rId1"/>
          <a:stretch/>
        </p:blipFill>
        <p:spPr>
          <a:xfrm>
            <a:off x="4724280" y="2590920"/>
            <a:ext cx="27957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rough, unpleasant, and un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j0237922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554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weather a place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MCj03351920000[1]"/>
          <p:cNvPicPr/>
          <p:nvPr/>
        </p:nvPicPr>
        <p:blipFill>
          <a:blip r:embed="rId1"/>
          <a:stretch/>
        </p:blipFill>
        <p:spPr>
          <a:xfrm>
            <a:off x="2514600" y="2362320"/>
            <a:ext cx="42512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t with sharp parts but no leaves; most live in very hot, dry areas of North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Cj0413604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27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Pj04224930000[1]"/>
          <p:cNvPicPr/>
          <p:nvPr/>
        </p:nvPicPr>
        <p:blipFill>
          <a:blip r:embed="rId2"/>
          <a:stretch/>
        </p:blipFill>
        <p:spPr>
          <a:xfrm>
            <a:off x="1600200" y="3200400"/>
            <a:ext cx="177948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animal that looks something like a wo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332306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88612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nd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d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bid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very, ver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MPj04022580000[1]"/>
          <p:cNvPicPr/>
          <p:nvPr/>
        </p:nvPicPr>
        <p:blipFill>
          <a:blip r:embed="rId1"/>
          <a:stretch/>
        </p:blipFill>
        <p:spPr>
          <a:xfrm>
            <a:off x="2666880" y="22860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6:54Z</dcterms:created>
  <dc:creator> </dc:creator>
  <dc:description/>
  <dc:language>en-US</dc:language>
  <cp:lastModifiedBy>Laura McDow</cp:lastModifiedBy>
  <dcterms:modified xsi:type="dcterms:W3CDTF">2010-09-02T15:33:22Z</dcterms:modified>
  <cp:revision>3</cp:revision>
  <dc:subject/>
  <dc:title>A Walk in the Desert Vocabulary and Amazing Words</dc:title>
</cp:coreProperties>
</file>